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0.jpeg" ContentType="image/jpeg"/>
  <Override PartName="/ppt/media/image19.gif" ContentType="image/gif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28EE-D2F6-4002-A1D7-42E2F18841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982D-A0F6-4BC5-9195-3FA98554F8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20E-B0F3-4C3E-9A63-BCDD9465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66B-5E87-4EC3-8A3B-B0908935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2B24F-19CF-415D-B91E-24E87FA8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E0264-2173-486E-9F12-23FD2165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31DD5-0A42-4F76-863D-22A90298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508C8-CC51-40A2-A798-87ACCB9A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1639C-18FC-4EDD-88A3-AEB2EF96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63B42-B039-4342-8E09-4B777FB9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55A88-B374-41EF-B792-6BE87EA5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DC717-AC2B-4016-A792-65C0B6E9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47E37-1C96-4E0A-86FB-8EBBB357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78752-F6EE-4530-9A71-7B8C8753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82A-113C-482A-A5EB-BD35B809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AE257-3A10-4F20-884F-F79E2EA7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4F725-B64F-4322-B98A-39CFFB47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D1D32-9D7A-474E-A11A-C0582A91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B40F3-90C5-4808-BD89-3FF4D284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C4948-2C64-4D07-B3C7-72C9F6F1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D9148-271C-4BEE-8124-1B81BEA4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7533E-36A6-4680-8B30-CA3362F0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0634C-5E68-4711-A550-436551A6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E9B5E-882F-4E0E-932E-73D03665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0C239-9E87-4DC1-87A1-6FC2043B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8BE-D0F4-4F60-8513-4DCEF64B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28FED-FFBA-4634-A1C9-A0317AA4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0AA24-31AF-43B1-A43A-2191D1C5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2CE80-BD79-4F96-A548-169002E1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7C46E-78D4-4EE8-B22B-B8DBD013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057F4-664E-4E30-A29F-0AED5E9B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02F1B-BDFA-4F45-BEBC-0A910382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C74E6-F46C-4B57-9AB2-EC8E3A92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87CEE-DAB4-40C5-8CF7-EF633C3D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C1D8D-2104-4343-80F8-22DE5386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C89D9-BF99-4B84-8F34-B663A380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C592-1632-49E7-8C76-92F155A8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9C573-5577-48FD-99A4-A2772BBD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A685F-524E-4886-8DF4-4C1AA354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23F65-165B-4145-A620-071B7A73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05D79-894D-4799-A5CE-8A54A299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92863-04C7-4D8D-9E96-4A9290A5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5D3FA-6E84-4EC8-A516-FE599E42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C88A0-E026-4D1F-9A2B-50DB4978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5DCBF-4D55-4196-B016-26137175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FDBFC-2914-442C-9843-44ECCF87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C213E-8CC8-4853-AFB2-AA9F4DFA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FDE2-790F-4766-A483-1803CE1D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1D191-E90D-4C0F-AAD6-4E1780F8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2FE51-E9D2-4FDD-BBDD-A67949B9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ECF52-9517-4D14-9C8A-960A84F3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45341-7DBA-4D63-A66C-F05DFE4D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67935-B56B-4CE4-80A4-5BDB6C60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39E33-611D-45CF-B2C2-3B408EE6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E9184-2AD8-49A6-8541-A54B39D2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015AB-9C70-45C1-84F1-E0C9489E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C99B3-96AC-45C8-8AEB-C4259C46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FD430-DDCE-423E-8A60-732CC3BD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EA37-3E37-4AAA-8687-6C9933BA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073D0-A28A-4546-996C-AA5257CA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3F6DD-7B18-47AB-83E3-74D9566C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E03CF-859D-435A-9771-877AE0A4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23D1B-4FBE-49F6-ADF9-7D961CA7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A3C08-E91C-44C4-B4C6-6BA5CF55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FFBCD-9D1A-4C52-8737-89DA0229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9B230-525F-4326-8087-DE5C41F0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5640BB-F7F2-4937-AFF4-8003859E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35460D-99DC-480E-A752-8A0E581E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B10CD-5423-4623-99C9-24E9770F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5D51-AB4C-4A98-ACA7-E574601C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1CE77-CE90-4CEF-95B2-43F61F79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E84082-568E-4B11-A885-D4F6780A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2A2602-FCA2-4197-85BA-9254CEA6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164FA-5133-41AD-8F57-F17262B6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6BDCE9-91E1-4F28-938C-5BD56955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D75061-5282-463F-BE69-9BF565C6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64F0F-828D-41DA-9BFF-E1613CD8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CBE5B9-1D45-4F8A-A3C1-737D7C52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69D63-78A0-441D-8EA2-E220F19C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694F-4E13-469C-946E-6637AA7F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07D2-3CFC-41FD-AF84-064D9C9C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817D5D-27C0-475D-AFEE-9FE234C3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1225C-EAD4-4CFC-9975-962C3397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52160D-5D46-498C-823B-2A244466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0EF45-96B2-4752-A76F-11E1A008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706207-8A70-4754-B0B1-1D6F2682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8AA5F-32BF-47FE-8F81-AB271A0D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CCF568-05AC-4862-9272-96A78E01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3D7BB5-B405-41A6-B208-961B0BC0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D6F87-6306-42CB-A19A-BBAAE52B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8485-0402-405B-9612-8A80708A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0D4433-C6A2-47B9-905B-2150979E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CDBA7A-C892-4E7D-823D-9A78D37D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E3E30E-190C-4F84-9CDD-021D44A4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FCBD5-EDF3-40F0-AC33-112FE220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59BD1-0E0E-4592-90D3-9C1CB2EE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EB2EFA-105F-461A-9867-BACB3271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223ED2-8A75-4BA5-A799-061786CC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CBD488-1E0C-4177-9315-F006C157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505915-B8EE-4056-9376-8CBB9420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0ECB79-A267-4238-AF11-76678D0F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DA9-0F58-41C6-ACF6-521FA6DA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E968-078D-4BC7-B0DA-E7458AF4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AA842-FA77-4093-9AAF-4BAAC6A2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3A68C-8A32-4DFF-ABA8-F7E2177B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361863-866C-472B-84B1-2D1316C4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3228E-3DE5-4DDD-8BA7-AC97D0EF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7F70D6-FB27-45F7-A36E-721AF7F4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9DB532-C95D-426C-A2D5-5ED23D0B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EFFFA6-E35A-4987-A8EC-9AF45B03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E896BE-50E5-4BF7-89A2-9DD68FFA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A0042-9C04-436E-B851-004A86B9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8346B3-2088-4AF2-9D49-C7F48EC5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D637-98E4-44CB-B28D-959573E7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867F63-0DD9-4E16-ACC4-7C7C3C29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14154B-A22D-4C3A-A698-AE55DCA3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813C1C-5E08-4EEE-AF16-D9376EB2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EF5A89-00C3-4796-A134-C2ECF400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246A5-2018-45ED-9817-BDF06213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910882-CE62-4B8D-A08D-347CF62E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280C1B-6DBA-4EC4-8B6A-62FC7FB2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6E4EC9-39EF-44E0-AD49-A7F8B1B4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AB8820-A327-454B-97E1-7CE7F616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CB2EBA-F883-46F1-9E91-8650AFE2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7C8F-FC65-4623-BFE7-66383C03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0462D1-DAE9-47FC-B4EA-29A25183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4F6F56-ABD3-41FB-92DF-E3D22AB5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41ECFF-0102-411E-AE93-EA266130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D76C11-DCEA-4D67-9E0F-F4A8A444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6036F-A6F8-4C6A-8A93-61C196F5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7E0EC-6CA7-4481-B717-1B6967AA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8571F7-D426-4733-8044-8E9706F6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A83F0E-E0AE-4A05-AAC6-D89ED535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FF1441-C9C6-4937-863D-2C057349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6BE1B1-5890-4B74-A092-B998C841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4402-D61C-4BE2-B719-236685C9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9A62EB-1574-4AF4-A385-6E15B695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7F2EC6-0D5D-4F3F-A004-BF0C2E59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E485C-734D-48F2-A11E-96286140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58FF9F-BC6F-4C75-81DF-932D6CF8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243E19-C7C4-47B0-B94A-C324A23F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F6CCC4-B9A9-4DF6-86F8-BED52BF5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86D207-3559-4492-A11B-AD4A8B57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5E2998-3805-4126-A9D1-CDD0BA97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589C52-0201-46FE-88EB-14529A73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5A6D2A-B948-4CF8-9FFC-8F473AFE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6BA7-2B8F-4BC9-9013-2A713170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796E9D-D65B-469F-9356-ED9E5C0A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A5A39A-6EAB-4EF7-A9BC-CEDD550A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00DC39-2513-44C8-AA8B-ABD5AD0E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8A8BDA-CA3E-44E6-A6E4-82099616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F8D612-B8A6-4A6B-AB9C-8A840277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9ED2CD-C6D5-43C4-B290-98F402ED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011C48-E5A2-47EE-AAB7-0AF95BDC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48C81A-49C3-4059-9153-FD844DA3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A8F1B2-88E5-4B03-AE17-BB8DBFA3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B19A52-7E0F-4486-841F-2DE4E86D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58925-7DB7-44ED-A498-9E9E9378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4996B-9C30-46AC-9CB5-4031F8DE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360597-4AB6-44BF-8AF2-A29261EB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68A382-7BBA-47DA-8514-2975A663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2DA6BA-53FC-4D83-8421-CA108F32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DE8899-98E8-4551-A35A-41C622B8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814AAF-8B32-4E1A-918B-537DA9C0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8413D8-8B09-4E33-A463-487339EC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4269BD-6705-45A6-8E92-965911A2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835D48-18A6-47F0-95A2-E5DAAD62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61BBEA-D4CD-49C2-85EC-EDBCEC17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1796E-4B23-4735-B75E-B54A3E19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587663-9B4F-40AE-A81F-8E237A51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FC3E05-4E63-47F0-B9BF-59371F34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72E27A-5C48-45AA-8BAD-7DAEA119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517E98-C4F2-4178-B238-C04F46E3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FAC1BD-98FA-43AC-8BF6-9D32C374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908985-266C-4105-A2ED-0A5A10DE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86D50F-1156-4C71-840B-33D4CB07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1725F7-1B19-4399-BB40-B0ADA5E0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E6E64A-E122-44E4-8EEE-C7898590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242D4B-6E87-424A-8DCD-1E2C4146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CF7BF-7D56-47DB-8D06-A9A06473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3AD1EB-5A41-4EBF-A698-E8B18D8B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C501C6-BCA0-49AA-B288-3C9C1194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DCC839-5A1C-4183-A0DD-C6EE2915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F39918-D54A-4B32-8199-AD30F1DA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E2C9EA-328A-4034-A9CC-8A9125B9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678D77-45E8-45BC-AD1F-E6566241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93310B-6819-4000-BB94-E080FA61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A11476-4232-45C7-AD43-D961DF13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7A5795-6FB8-41CB-A000-87990724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DCEB1B-EFED-4C15-81DF-702A72DB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BBCAF-EA50-40B5-A729-4E4F2260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6DAFE1-A841-4952-8813-CF1077D4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61B890-ED63-4E25-9BAE-E1610E45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DD2E8C-C89B-4145-AB12-6CDEFF75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691D63-20D1-407C-8B2C-83090295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B203EF-5FC6-45D7-865C-D26F35D5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223BAD-8C8A-4695-A11C-192B9D2B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048065-5313-472A-BBC8-EAC0DE23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AD5BDF-E325-4957-B9B6-6754C204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8DF1F9-1427-4E5D-AD18-04CBD83D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83119B-6FC8-4C69-B3D7-422439F2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4795-C839-40CF-B9F6-9DC3BCC0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F68251-602D-4ACD-8379-AA3279C4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B4491E-91FC-4A02-A5B5-7D612F46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854CBC-57CC-48FB-8468-D006F145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72B746-A9B1-4379-BF7F-4D796891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E948A7-CD40-4412-8A7F-F82FB127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67E148-C714-45CF-B670-8600639B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1EBB74-E4A2-4C82-B0CE-C09C8BE9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51F545-E6EA-41A7-B941-A6AC632C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5A561B-F8FB-4EF7-8DB0-5BCD3C3E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88011F-7525-4C6A-9C67-5BEDA0CB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780-7D1D-4DEE-ACF4-4BFEDBC4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10F1-001D-4C42-8DAF-E311642A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7C8DE9-F6CC-4608-A49A-F73211C5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04B5CB-A252-4124-A780-BBD54F7C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BAF231-8E21-49DE-AA4E-CD5E40DF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A28384-69A2-422B-85E0-80F01D77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2DBCB6-4D04-4D20-A059-9BCF5454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72876A-3337-4C98-8389-295DB93D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2770B1-9181-4B4B-A628-0C575515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1AE6EF-E603-4FC4-AD64-7F556084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DCCBD4-7A3A-4B02-8746-1BDD12AF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E74179-4B26-4822-9A46-FD375EC3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D8C1-D422-40D6-B88E-401C518E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746136-92B1-4074-9E6F-CDB2D303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7AD48D-0A4A-4AA9-BA82-524D4991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A41B96-D306-4AA6-B22C-14E1D603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5C32F8-6666-4B12-8AEA-037912F1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343E15-22D5-463E-B8C2-0ED6CAD9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FDF316-DEA1-481A-A818-4140CF88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B20B08-BAB0-4677-BC22-6E4E8A70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729943-894D-45D3-85E1-9AAB23AD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726619-CB8F-4E2E-978C-3FE4F499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0015E4-AB8A-4D8D-B9E2-1043FC20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4E685-15A0-49A2-A1FD-AA89A354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F2A99D-45E2-472D-83E4-D1D960AE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80F438-525E-42B5-A3C1-A7108636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9C2529-C083-4728-86BF-30CAD39E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520F61-AE63-4055-BDCD-E19C27B4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9F5A24-1276-4776-A216-6B9DCC5D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FD5DF-95F9-471A-81C2-DE7D7C3F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C38D1-0EBF-4868-AB3B-83D05607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07D6C-AFBE-497F-B700-4C5FBB7D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AE1AA-AD99-4CF2-AC26-1894FF55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D7E41-5BA1-4E7E-BB00-15B548A2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9A9DE-E6C6-4DC1-B462-81DD4661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5EBA7-C676-473D-9A77-D345C550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1C4-41E9-4754-B813-15BF8DCF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6ACCF-9B3B-4B3E-B64B-698216C2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E0946-32CB-4492-8E62-2FF51149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8F3C8-CD70-43D6-A13A-B3F6C015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6246D-9726-494B-B80F-D9FEDC4F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C3F88-F9BF-44AA-AA8B-497C9C66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FDF7B-A070-4907-9CF5-682FD0D9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7D49D-F469-4FA0-BF34-CCAFDF80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130BB-4440-4CBD-A550-575E4DAA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CB782-299E-40D8-B2CF-E5E2FD80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58BE6-7FD9-486E-A99C-6BB1A117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2ED6-FF8A-4D01-BD0C-381DFDDD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737A5-91E0-4C86-B423-36C95E44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EA181-8F32-4D28-A6DE-5BC9F018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78AB0-C5B0-443C-BDA0-7C73C1EE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34267-692D-4F5A-8FF4-E070FEDF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7E8E0-7E6B-4197-94AB-5CB4CFCF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3266B-2422-45C2-ADDF-335AEF4E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9B3D8-2F80-400E-A3B6-C5EA123D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E3C40-3A70-40FA-BA5C-0BC5601E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54576-3DC1-4F96-9D32-2AE26741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8FCFF-786C-46E4-A379-9873A22A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783-44DB-481E-B758-74BFBE12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CC67B-BC93-4770-9BFD-7B1AEDEC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94AC0-7111-4DFB-A962-465F57D2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35999-AD4D-4FA6-B980-1F5FBEBA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3286A-24AB-47F3-8DF1-55E0BEC9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6D0A8-5E51-41E6-B5A5-487BDA28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A898B-01F2-4A87-A573-922BCC4D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894FD-4551-4524-8860-E2FD3444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D0F19-39DE-4906-9877-B03C93E2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152F6-E8C2-4D8D-AF4C-8D3E5A08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16E56-0DFF-488B-84D4-540C007C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C23-6670-4657-8B53-A128719C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F4DC3-702A-48C8-B421-02307373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898C2-8C6D-4B28-95D8-03D85588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E6521-D280-480F-AA30-9852295A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8C07F-0EB9-4160-B439-245FA824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C2369-4815-4236-A03D-CF1CEF96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9FD6C-8B98-424C-9B11-D0EBA9B4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B6B0E-085F-4B95-890E-4400B34E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EB0E9-1339-49E8-A9B7-3E0A9BA2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7BFBD-55C4-474D-AA05-28F17DAD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D3521-5FD5-4F7B-B422-C21B6601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823-3AAB-40FC-B6E9-7A0BF60B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874E1-E9D1-4A85-A2D4-8789F5CD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6BC4F-F766-4CC3-9A3C-BE7A3798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1AA4C-8681-4EDF-8598-2AAAE9BA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AB729-33F3-4FAE-9FE1-AD280105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82A61-E9BE-4DB7-99B4-B2860F20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2A11E-BBC7-4A47-8576-E216B3F6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0819A-BD6B-4F6B-B96E-F8BBF45F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F5E0E-D6E1-4B5B-BB0C-D0D90103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278D8-32CF-438B-8D99-00635B8E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EA667-EC0A-4CDD-9BF6-F5E41072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3EE-540D-485A-830C-3FA215AB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36B1B-7B30-439B-AB19-1E42C8C9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67B00-09D5-4816-9DE4-111A2F1B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DC461-7C10-457A-B895-82801ED9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B54AC-67B5-45E5-BAA1-CA8B5790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C9BB2-CD7C-49BA-8DE0-48AC0EF5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D6C12-21D0-4975-B3DF-16897E5F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52F11-D4B2-4785-83EC-64527737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FDDC6-3F6D-4A8C-A833-CE228212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FCF73-5FE8-47DA-BCAC-9F6E4576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5D1F1-C1FA-48F8-86D4-FB06E969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3628-97C0-4BFF-9A75-DB41ADB7AE4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616B-DBCF-4E17-9DE5-1E07D5EEAB6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F6D3-910B-49CE-831B-BA28E3E8A60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FD4C-6AFF-4B88-8E71-900AB3C72A6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9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A255-9D67-4D2D-B5D5-028F849ABDD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6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2E0D-7FC9-464C-87DE-4A8A40084CF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3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10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9302-6080-41FC-8A50-F331DB28297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18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3EAC-431A-49C2-AC9D-7B147074079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25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1439-960D-478F-B174-C4F5C6F4397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33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9355-D26C-4B21-8832-BECFC11CFFC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B2ED-CBF4-4203-91FC-1D174305FCB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0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2CDA-8E94-4B8C-9D75-D7E6CABD615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8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9F84-9749-427B-8F9B-708FA4AC911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5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A5CC-C710-412A-9C43-09B71A34145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62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5398-7BE7-4B9E-AE82-DB882934DDE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70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4CB2-E549-4551-A671-A278755B087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77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AE2F-8560-43DD-BB4C-3E15AAD51DF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8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1470-557D-4332-826F-1F4759BDE91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9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8DA9-9F6C-414E-B91C-2E88C50B245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9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0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5EFD-3FDE-4DA2-B33C-62745D68B92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D3B4-29BA-46DF-B09C-26AC4CA782A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9078-09B3-490F-9925-E4EC06B8D8E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FEDE-950A-44A9-BDD5-31B9E4BA05E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3974-3747-47CD-80E2-4FFB06CEE55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1818-09C2-4F83-85BA-64D7753F2D9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B994-A069-47A8-801F-4CA24ABEF24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70642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TEMA 4: TRANSPORTE </a:t>
            </a:r>
            <a:br>
              <a:rPr sz="4800"/>
            </a:b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 Y ELIMINACIÓN DE DESECHO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 type="subTitle"/>
          </p:nvPr>
        </p:nvSpPr>
        <p:spPr>
          <a:xfrm>
            <a:off x="323640" y="3213000"/>
            <a:ext cx="7272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ÍND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ERMEDADES RELACIONADAS CON LA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VASOS SANGUI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RECORRIDO DE LA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ERMEDADES CARDIOVAS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ISTEMA URINARIO Y LA EXCRE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ÓMO FUNCIONAN LOS RIÑON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ISTEMA URINARIO Y L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TRO SISTEMAS PARA UNA FUNCIÓN: LA NUTR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5. EL RECORRIDO DE LA SANGR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4716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structura del coraz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doble bomba) hace que la circulación de la sangre sea do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ircuito pulmonar o meno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ntre el corazón y los pulmones (intercambio de gases). La sangre sale del ventrículo derecho (cargada de CO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por las arterias pulmonares y va a los pulmones, allí ocurre el intercambio gaseoso, sale cargada de O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vuelve al corazón a la aurícula izquierda a través de las venas pulmon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ircuito general o mayor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corazón al resto del organismo (distribuye oxígeno y nutrientes y recoge desechos). La sangre sale del ventrículo izquierdo a través de la arteria aorta a todo el organismo cargada de O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se produce el intercambio gaseoso con las células del organismo, saliendo cargada de CO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resando al corazón a la aurícula derecha a través de las venas c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5" name="Picture 6" descr="anato39"/>
          <p:cNvPicPr/>
          <p:nvPr/>
        </p:nvPicPr>
        <p:blipFill>
          <a:blip r:embed="rId1"/>
          <a:stretch/>
        </p:blipFill>
        <p:spPr>
          <a:xfrm>
            <a:off x="4716360" y="1484280"/>
            <a:ext cx="442764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3 Rectángulo"/>
          <p:cNvSpPr/>
          <p:nvPr/>
        </p:nvSpPr>
        <p:spPr>
          <a:xfrm>
            <a:off x="395280" y="836640"/>
            <a:ext cx="748980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Para qué un recorrido tan complic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asa por los pulmones la sangr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ara que se oxigene antes de pasar al resto del organ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odos los órganos de nuestro cuerpo reciban la sangre rica en oxíge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dando igual lo alejados que esté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resumen, el recorrido de la sangre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la sangre pas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os veces por el corazón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Una cuando recorre el circuito pulmonar y otra al atravesar el circuito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e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hay una completa separación entre la sangre rica y pobre en oxíg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 Cerra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la sangre no sale de los vasos sanguíne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6. ENFERMEDADES CARDIOVASCULA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906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fermedades cardiovascula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rterioesclerosi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durecimiento de las arterias debido al depósit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rasa y colestero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sus paredes. Pueden taponar arte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nfarto de miocardi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uando u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águ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apona alguna de las arterias coronarias que nutren al corazón. Mueren las células musculares y parte del corazón deja de funcion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5364000" y="1719000"/>
            <a:ext cx="378000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alud cardiovasc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ilo d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ida salu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o fum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nicotina endurece las paredes de las arte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ieta equilibrad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vitar el exceso de grasas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jercici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dilata los vasos y mejora el mantenimiento del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0" name="Picture 7" descr="2052917704_da0b2a699e"/>
          <p:cNvPicPr/>
          <p:nvPr/>
        </p:nvPicPr>
        <p:blipFill>
          <a:blip r:embed="rId1"/>
          <a:stretch/>
        </p:blipFill>
        <p:spPr>
          <a:xfrm>
            <a:off x="1835280" y="4797360"/>
            <a:ext cx="223200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 u="sng">
                <a:solidFill>
                  <a:srgbClr val="330066"/>
                </a:solidFill>
                <a:uFillTx/>
                <a:latin typeface="Arial"/>
              </a:rPr>
              <a:t>ESQUEMA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52" name="Picture 5" descr="mapa"/>
          <p:cNvPicPr/>
          <p:nvPr/>
        </p:nvPicPr>
        <p:blipFill>
          <a:blip r:embed="rId1"/>
          <a:stretch/>
        </p:blipFill>
        <p:spPr>
          <a:xfrm>
            <a:off x="539640" y="1397160"/>
            <a:ext cx="7345440" cy="487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6004d"/>
                </a:solidFill>
                <a:latin typeface="Arial"/>
                <a:ea typeface="Arial"/>
              </a:rPr>
              <a:t>7. EL SISTEMA URINARIO Y LA EXCRECIÓN: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4" name=""/>
          <p:cNvSpPr txBox="1"/>
          <p:nvPr/>
        </p:nvSpPr>
        <p:spPr>
          <a:xfrm>
            <a:off x="0" y="1413000"/>
            <a:ext cx="5292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creción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iminación de sustancias de desecho procedentes de la actividad de las células (CO2, orina, sud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in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íquido de color amarillo transparente formada principalmente por agua y sustancias disueltas de desecho (ure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tes del sistema urin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iñon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orman la orina, se distingu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rteza: en el exterior, de aspecto granul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édula: dividida en zonas con forma piramid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rteria y vena re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réter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os tubos finos que llevan la orina desde los riñones hasta la vejiga de la or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ejig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ugar donde se almacena la or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está llena se contrae y se expul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retr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ducto que une la vejiga al ex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5" name="Picture 5" descr="sistemaurinario1"/>
          <p:cNvPicPr/>
          <p:nvPr/>
        </p:nvPicPr>
        <p:blipFill>
          <a:blip r:embed="rId1"/>
          <a:stretch/>
        </p:blipFill>
        <p:spPr>
          <a:xfrm>
            <a:off x="5364000" y="836640"/>
            <a:ext cx="378000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6" name="Picture 104" descr="227ALMP07H02"/>
          <p:cNvPicPr/>
          <p:nvPr/>
        </p:nvPicPr>
        <p:blipFill>
          <a:blip r:embed="rId2"/>
          <a:stretch/>
        </p:blipFill>
        <p:spPr>
          <a:xfrm>
            <a:off x="7667640" y="4724280"/>
            <a:ext cx="1476360" cy="1873440"/>
          </a:xfrm>
          <a:prstGeom prst="rect">
            <a:avLst/>
          </a:prstGeom>
          <a:ln w="0">
            <a:noFill/>
          </a:ln>
        </p:spPr>
      </p:pic>
      <p:sp>
        <p:nvSpPr>
          <p:cNvPr id="2157" name="5 CuadroTexto"/>
          <p:cNvSpPr/>
          <p:nvPr/>
        </p:nvSpPr>
        <p:spPr>
          <a:xfrm>
            <a:off x="6588000" y="47242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t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8" name="10 Conector recto de flecha"/>
          <p:cNvCxnSpPr/>
          <p:nvPr/>
        </p:nvCxnSpPr>
        <p:spPr>
          <a:xfrm>
            <a:off x="7380360" y="4869000"/>
            <a:ext cx="50544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59" name="12 CuadroTexto"/>
          <p:cNvSpPr/>
          <p:nvPr/>
        </p:nvSpPr>
        <p:spPr>
          <a:xfrm>
            <a:off x="6372360" y="530064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éd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0" name="16 Conector recto de flecha"/>
          <p:cNvCxnSpPr/>
          <p:nvPr/>
        </p:nvCxnSpPr>
        <p:spPr>
          <a:xfrm flipV="1">
            <a:off x="7164360" y="5157000"/>
            <a:ext cx="93744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61" name="17 CuadroTexto"/>
          <p:cNvSpPr/>
          <p:nvPr/>
        </p:nvSpPr>
        <p:spPr>
          <a:xfrm>
            <a:off x="6516720" y="5661000"/>
            <a:ext cx="86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teria y vena re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2" name="21 Conector recto de flecha"/>
          <p:cNvCxnSpPr/>
          <p:nvPr/>
        </p:nvCxnSpPr>
        <p:spPr>
          <a:xfrm flipV="1">
            <a:off x="7451640" y="5516280"/>
            <a:ext cx="43416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63" name="22 CuadroTexto"/>
          <p:cNvSpPr/>
          <p:nvPr/>
        </p:nvSpPr>
        <p:spPr>
          <a:xfrm>
            <a:off x="6300720" y="6453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r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4" name="24 Conector recto de flecha"/>
          <p:cNvCxnSpPr/>
          <p:nvPr/>
        </p:nvCxnSpPr>
        <p:spPr>
          <a:xfrm flipV="1">
            <a:off x="7093080" y="6308280"/>
            <a:ext cx="792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6004d"/>
                </a:solidFill>
                <a:latin typeface="Arial"/>
                <a:ea typeface="Arial"/>
              </a:rPr>
              <a:t>8. ¿CÓMO FUNCIONAN LOS RIÑONES?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6" name=""/>
          <p:cNvSpPr txBox="1"/>
          <p:nvPr/>
        </p:nvSpPr>
        <p:spPr>
          <a:xfrm>
            <a:off x="457200" y="1413000"/>
            <a:ext cx="433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efron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funcionan como pequeñas fábricas de orina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unidad básica del riñón, formadas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ápsul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hueca rodeada de capilares sanguíne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úbulo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tubo fino con forma de asa. Desembocan en un tubo más grueso que recoge la orina formada por varias nefro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5796000" y="1600200"/>
            <a:ext cx="316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ormación de orin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a orina es un filtrado de la sangre, una disolución más concentrada de productos de desecho como la u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sangre que va por los capilares llega a la cápsula. La delgada pared de la cápsula hace de filtro y deja pasar pequeñas moléculas como sales, glucosa, urea y a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filtrado pasa por el túbulo y parte es reabsorbido de nuevo a la sangre (glucosa y agua) el resto de urea y sales, forman la or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8" name="Picture 8" descr="form-orina"/>
          <p:cNvPicPr/>
          <p:nvPr/>
        </p:nvPicPr>
        <p:blipFill>
          <a:blip r:embed="rId1"/>
          <a:stretch/>
        </p:blipFill>
        <p:spPr>
          <a:xfrm>
            <a:off x="539640" y="3716280"/>
            <a:ext cx="5256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9" name="Picture 84" descr="826630Atlas_Página_07_Imagen_0002"/>
          <p:cNvPicPr/>
          <p:nvPr/>
        </p:nvPicPr>
        <p:blipFill>
          <a:blip r:embed="rId1"/>
          <a:stretch/>
        </p:blipFill>
        <p:spPr>
          <a:xfrm>
            <a:off x="216000" y="1233360"/>
            <a:ext cx="2295360" cy="2880000"/>
          </a:xfrm>
          <a:prstGeom prst="rect">
            <a:avLst/>
          </a:prstGeom>
          <a:ln w="0">
            <a:noFill/>
          </a:ln>
        </p:spPr>
      </p:pic>
      <p:sp>
        <p:nvSpPr>
          <p:cNvPr id="2170" name="Text Box 25"/>
          <p:cNvSpPr/>
          <p:nvPr/>
        </p:nvSpPr>
        <p:spPr>
          <a:xfrm>
            <a:off x="792000" y="26028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El funcionamiento de los ri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1" name="Picture 82" descr="826630Atlas_Página_07_Imagen_0004"/>
          <p:cNvPicPr/>
          <p:nvPr/>
        </p:nvPicPr>
        <p:blipFill>
          <a:blip r:embed="rId2"/>
          <a:stretch/>
        </p:blipFill>
        <p:spPr>
          <a:xfrm>
            <a:off x="3849840" y="946080"/>
            <a:ext cx="4430520" cy="5075280"/>
          </a:xfrm>
          <a:prstGeom prst="rect">
            <a:avLst/>
          </a:prstGeom>
          <a:ln w="0">
            <a:noFill/>
          </a:ln>
        </p:spPr>
      </p:pic>
      <p:sp>
        <p:nvSpPr>
          <p:cNvPr id="2172" name="Oval 85"/>
          <p:cNvSpPr/>
          <p:nvPr/>
        </p:nvSpPr>
        <p:spPr>
          <a:xfrm>
            <a:off x="1224000" y="3357720"/>
            <a:ext cx="503280" cy="50292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Line 86"/>
          <p:cNvSpPr/>
          <p:nvPr/>
        </p:nvSpPr>
        <p:spPr>
          <a:xfrm>
            <a:off x="1727280" y="3645000"/>
            <a:ext cx="1836720" cy="179280"/>
          </a:xfrm>
          <a:prstGeom prst="line">
            <a:avLst/>
          </a:prstGeom>
          <a:ln w="190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Rectangle 87"/>
          <p:cNvSpPr/>
          <p:nvPr/>
        </p:nvSpPr>
        <p:spPr>
          <a:xfrm>
            <a:off x="539640" y="4076640"/>
            <a:ext cx="1871640" cy="151308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Nefron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Constituyen el riñ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iltran y depuran la sang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orman la o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Line 88"/>
          <p:cNvSpPr/>
          <p:nvPr/>
        </p:nvSpPr>
        <p:spPr>
          <a:xfrm flipH="1" flipV="1">
            <a:off x="4296960" y="3247560"/>
            <a:ext cx="576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Line 90"/>
          <p:cNvSpPr/>
          <p:nvPr/>
        </p:nvSpPr>
        <p:spPr>
          <a:xfrm flipH="1" flipV="1">
            <a:off x="4191120" y="130464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Text Box 91"/>
          <p:cNvSpPr/>
          <p:nvPr/>
        </p:nvSpPr>
        <p:spPr>
          <a:xfrm>
            <a:off x="2679840" y="1125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rteriola efe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Line 92"/>
          <p:cNvSpPr/>
          <p:nvPr/>
        </p:nvSpPr>
        <p:spPr>
          <a:xfrm flipH="1" flipV="1">
            <a:off x="4319640" y="1989000"/>
            <a:ext cx="122544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Text Box 93"/>
          <p:cNvSpPr/>
          <p:nvPr/>
        </p:nvSpPr>
        <p:spPr>
          <a:xfrm>
            <a:off x="2808360" y="1808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rteriola afe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Line 94"/>
          <p:cNvSpPr/>
          <p:nvPr/>
        </p:nvSpPr>
        <p:spPr>
          <a:xfrm flipH="1">
            <a:off x="4247640" y="5121360"/>
            <a:ext cx="397080" cy="63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 Box 95"/>
          <p:cNvSpPr/>
          <p:nvPr/>
        </p:nvSpPr>
        <p:spPr>
          <a:xfrm>
            <a:off x="3166920" y="569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Vénula re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Line 96"/>
          <p:cNvSpPr/>
          <p:nvPr/>
        </p:nvSpPr>
        <p:spPr>
          <a:xfrm>
            <a:off x="6156360" y="5337000"/>
            <a:ext cx="468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Text Box 97"/>
          <p:cNvSpPr/>
          <p:nvPr/>
        </p:nvSpPr>
        <p:spPr>
          <a:xfrm>
            <a:off x="6445080" y="569736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Rama descend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Line 98"/>
          <p:cNvSpPr/>
          <p:nvPr/>
        </p:nvSpPr>
        <p:spPr>
          <a:xfrm flipH="1">
            <a:off x="5403960" y="5300640"/>
            <a:ext cx="39672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Text Box 99"/>
          <p:cNvSpPr/>
          <p:nvPr/>
        </p:nvSpPr>
        <p:spPr>
          <a:xfrm>
            <a:off x="4716360" y="5697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Rama ascend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AutoShape 100"/>
          <p:cNvSpPr/>
          <p:nvPr/>
        </p:nvSpPr>
        <p:spPr>
          <a:xfrm rot="16200000">
            <a:off x="6318000" y="4287600"/>
            <a:ext cx="287280" cy="3421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0 h 3421080"/>
              <a:gd name="textAreaBottom" fmla="*/ 3421440 h 34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936"/>
                </a:lnTo>
                <a:cubicBezTo>
                  <a:pt x="10800" y="10936"/>
                  <a:pt x="5400" y="10936"/>
                  <a:pt x="0" y="10936"/>
                </a:cubicBezTo>
                <a:cubicBezTo>
                  <a:pt x="5400" y="10936"/>
                  <a:pt x="10800" y="10936"/>
                  <a:pt x="10800" y="1093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Text Box 101"/>
          <p:cNvSpPr/>
          <p:nvPr/>
        </p:nvSpPr>
        <p:spPr>
          <a:xfrm>
            <a:off x="5692680" y="608976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sa de Hen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Text Box 102"/>
          <p:cNvSpPr/>
          <p:nvPr/>
        </p:nvSpPr>
        <p:spPr>
          <a:xfrm>
            <a:off x="5616720" y="103680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Cápsula de Bowm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Line 103"/>
          <p:cNvSpPr/>
          <p:nvPr/>
        </p:nvSpPr>
        <p:spPr>
          <a:xfrm flipV="1">
            <a:off x="6084720" y="1305000"/>
            <a:ext cx="21600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Text Box 104"/>
          <p:cNvSpPr/>
          <p:nvPr/>
        </p:nvSpPr>
        <p:spPr>
          <a:xfrm>
            <a:off x="6423120" y="133992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lomér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Line 105"/>
          <p:cNvSpPr/>
          <p:nvPr/>
        </p:nvSpPr>
        <p:spPr>
          <a:xfrm flipV="1">
            <a:off x="6119640" y="1591920"/>
            <a:ext cx="39708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 Box 106"/>
          <p:cNvSpPr/>
          <p:nvPr/>
        </p:nvSpPr>
        <p:spPr>
          <a:xfrm>
            <a:off x="8028000" y="4387680"/>
            <a:ext cx="12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Túbulo col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Line 107"/>
          <p:cNvSpPr/>
          <p:nvPr/>
        </p:nvSpPr>
        <p:spPr>
          <a:xfrm>
            <a:off x="7632720" y="4400640"/>
            <a:ext cx="468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Text Box 115"/>
          <p:cNvSpPr/>
          <p:nvPr/>
        </p:nvSpPr>
        <p:spPr>
          <a:xfrm>
            <a:off x="3348000" y="299736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rteriola re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Rectangle 75"/>
          <p:cNvSpPr/>
          <p:nvPr/>
        </p:nvSpPr>
        <p:spPr>
          <a:xfrm>
            <a:off x="71280" y="1700280"/>
            <a:ext cx="8677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6" name="Object 2"/>
          <p:cNvGraphicFramePr/>
          <p:nvPr/>
        </p:nvGraphicFramePr>
        <p:xfrm>
          <a:off x="179280" y="3451320"/>
          <a:ext cx="8425080" cy="23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451320"/>
                    <a:ext cx="842508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8" name="Line 63"/>
          <p:cNvSpPr/>
          <p:nvPr/>
        </p:nvSpPr>
        <p:spPr>
          <a:xfrm flipV="1">
            <a:off x="719280" y="3284280"/>
            <a:ext cx="323640" cy="7189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Rectangle 67"/>
          <p:cNvSpPr/>
          <p:nvPr/>
        </p:nvSpPr>
        <p:spPr>
          <a:xfrm>
            <a:off x="7380360" y="5732640"/>
            <a:ext cx="863640" cy="1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Or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AutoShape 68"/>
          <p:cNvSpPr/>
          <p:nvPr/>
        </p:nvSpPr>
        <p:spPr>
          <a:xfrm>
            <a:off x="7812000" y="5445000"/>
            <a:ext cx="108000" cy="25236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ffffff"/>
          </a:solidFill>
          <a:ln cap="rnd" w="9360">
            <a:solidFill>
              <a:srgbClr val="33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Text Box 74"/>
          <p:cNvSpPr/>
          <p:nvPr/>
        </p:nvSpPr>
        <p:spPr>
          <a:xfrm>
            <a:off x="287280" y="177336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tapas de la formación de o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62"/>
          <p:cNvSpPr/>
          <p:nvPr/>
        </p:nvSpPr>
        <p:spPr>
          <a:xfrm>
            <a:off x="826920" y="2744640"/>
            <a:ext cx="2089440" cy="54000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Filtració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lomer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64"/>
          <p:cNvSpPr/>
          <p:nvPr/>
        </p:nvSpPr>
        <p:spPr>
          <a:xfrm>
            <a:off x="3851280" y="2744640"/>
            <a:ext cx="4321080" cy="54000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eabsorción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tub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AutoShape 95"/>
          <p:cNvSpPr/>
          <p:nvPr/>
        </p:nvSpPr>
        <p:spPr>
          <a:xfrm rot="16200000">
            <a:off x="401760" y="5387760"/>
            <a:ext cx="71280" cy="144720"/>
          </a:xfrm>
          <a:prstGeom prst="downArrow">
            <a:avLst>
              <a:gd name="adj1" fmla="val 50000"/>
              <a:gd name="adj2" fmla="val 50758"/>
            </a:avLst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AutoShape 96"/>
          <p:cNvSpPr/>
          <p:nvPr/>
        </p:nvSpPr>
        <p:spPr>
          <a:xfrm rot="16200000">
            <a:off x="401400" y="5542920"/>
            <a:ext cx="71640" cy="144720"/>
          </a:xfrm>
          <a:prstGeom prst="downArrow">
            <a:avLst>
              <a:gd name="adj1" fmla="val 50000"/>
              <a:gd name="adj2" fmla="val 50503"/>
            </a:avLst>
          </a:prstGeom>
          <a:solidFill>
            <a:srgbClr val="ff33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AutoShape 97"/>
          <p:cNvSpPr/>
          <p:nvPr/>
        </p:nvSpPr>
        <p:spPr>
          <a:xfrm rot="16200000">
            <a:off x="401400" y="5698440"/>
            <a:ext cx="71640" cy="144720"/>
          </a:xfrm>
          <a:prstGeom prst="downArrow">
            <a:avLst>
              <a:gd name="adj1" fmla="val 50000"/>
              <a:gd name="adj2" fmla="val 50503"/>
            </a:avLst>
          </a:prstGeom>
          <a:solidFill>
            <a:srgbClr val="ff993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AutoShape 98"/>
          <p:cNvSpPr/>
          <p:nvPr/>
        </p:nvSpPr>
        <p:spPr>
          <a:xfrm rot="16200000">
            <a:off x="401400" y="5853960"/>
            <a:ext cx="71640" cy="144720"/>
          </a:xfrm>
          <a:prstGeom prst="downArrow">
            <a:avLst>
              <a:gd name="adj1" fmla="val 50000"/>
              <a:gd name="adj2" fmla="val 50503"/>
            </a:avLst>
          </a:prstGeom>
          <a:solidFill>
            <a:srgbClr val="66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Text Box 99"/>
          <p:cNvSpPr/>
          <p:nvPr/>
        </p:nvSpPr>
        <p:spPr>
          <a:xfrm>
            <a:off x="502200" y="5337000"/>
            <a:ext cx="66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cc33"/>
                </a:solidFill>
                <a:latin typeface="Calibri"/>
              </a:rPr>
              <a:t>Dese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Text Box 100"/>
          <p:cNvSpPr/>
          <p:nvPr/>
        </p:nvSpPr>
        <p:spPr>
          <a:xfrm>
            <a:off x="492480" y="54928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3300"/>
                </a:solidFill>
                <a:latin typeface="Calibri"/>
              </a:rPr>
              <a:t>Sang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Text Box 101"/>
          <p:cNvSpPr/>
          <p:nvPr/>
        </p:nvSpPr>
        <p:spPr>
          <a:xfrm>
            <a:off x="479160" y="5648400"/>
            <a:ext cx="72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9900"/>
                </a:solidFill>
                <a:latin typeface="Calibri"/>
              </a:rPr>
              <a:t>Nutr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Text Box 102"/>
          <p:cNvSpPr/>
          <p:nvPr/>
        </p:nvSpPr>
        <p:spPr>
          <a:xfrm>
            <a:off x="481680" y="580392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66ff"/>
                </a:solidFill>
                <a:latin typeface="Calibri"/>
              </a:rPr>
              <a:t>Agu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 txBox="1"/>
          <p:nvPr/>
        </p:nvSpPr>
        <p:spPr>
          <a:xfrm>
            <a:off x="456840" y="475920"/>
            <a:ext cx="71391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doble función del riñ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arbono, el oxígeno y el hidrógeno de las moléculas orgánicas que se degrada en la respiración celular pasan a formar CO</a:t>
            </a:r>
            <a:r>
              <a:rPr b="0" lang="es-E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agua.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itróg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parece en la sangre formand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ure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 baseline="-2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l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ure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óx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on eliminados al exterior a través de los riñones, pulmones y piel (órganos excretor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riñ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alizan un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oble fun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yudan a limpiar la sangre de desechos (excreció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an la cantidad de agua y sales que esta conti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omeosta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mecanismos que hacen que los seres vivos alcancen una estabilidad en las propiedades de su medio interno. Ayudan a esta estabil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riñ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ulmones: expulsan el CO</a:t>
            </a:r>
            <a:r>
              <a:rPr b="0" lang="es-ES" sz="1600" spc="-1" strike="noStrike" baseline="-2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hígado: elimina y expulsa sustancias tóxicas y de desec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iel: elimina agua y sustancias de desec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erebro: controlador de los procesos homeostá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2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2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2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2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2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2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Text Box 25"/>
          <p:cNvSpPr/>
          <p:nvPr/>
        </p:nvSpPr>
        <p:spPr>
          <a:xfrm>
            <a:off x="792000" y="40464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Órganos con función excre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4" name="Picture 100" descr="826630Unidad03_Página_16_Imagen_0004"/>
          <p:cNvPicPr/>
          <p:nvPr/>
        </p:nvPicPr>
        <p:blipFill>
          <a:blip r:embed="rId1"/>
          <a:srcRect l="27816" t="38730" r="29362" b="0"/>
          <a:stretch/>
        </p:blipFill>
        <p:spPr>
          <a:xfrm>
            <a:off x="1150920" y="1447920"/>
            <a:ext cx="3816360" cy="280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5" name="Object 2"/>
          <p:cNvGraphicFramePr/>
          <p:nvPr/>
        </p:nvGraphicFramePr>
        <p:xfrm>
          <a:off x="647640" y="4149720"/>
          <a:ext cx="2737080" cy="208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640" y="4149720"/>
                    <a:ext cx="273708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7" name="Picture 105" descr="826630Atlas_Página_11_Imagen_0002"/>
          <p:cNvPicPr/>
          <p:nvPr/>
        </p:nvPicPr>
        <p:blipFill>
          <a:blip r:embed="rId4"/>
          <a:stretch/>
        </p:blipFill>
        <p:spPr>
          <a:xfrm>
            <a:off x="5740560" y="2708280"/>
            <a:ext cx="3344760" cy="3457440"/>
          </a:xfrm>
          <a:prstGeom prst="rect">
            <a:avLst/>
          </a:prstGeom>
          <a:ln w="0">
            <a:noFill/>
          </a:ln>
        </p:spPr>
      </p:pic>
      <p:sp>
        <p:nvSpPr>
          <p:cNvPr id="2218" name="Rectangle 106"/>
          <p:cNvSpPr/>
          <p:nvPr/>
        </p:nvSpPr>
        <p:spPr>
          <a:xfrm>
            <a:off x="1170000" y="1557360"/>
            <a:ext cx="122400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ulm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Line 107"/>
          <p:cNvSpPr/>
          <p:nvPr/>
        </p:nvSpPr>
        <p:spPr>
          <a:xfrm flipH="1">
            <a:off x="1800360" y="2492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Text Box 108"/>
          <p:cNvSpPr/>
          <p:nvPr/>
        </p:nvSpPr>
        <p:spPr>
          <a:xfrm>
            <a:off x="358920" y="22766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liminan 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Rectangle 109"/>
          <p:cNvSpPr/>
          <p:nvPr/>
        </p:nvSpPr>
        <p:spPr>
          <a:xfrm>
            <a:off x="358920" y="3816360"/>
            <a:ext cx="125892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Line 110"/>
          <p:cNvSpPr/>
          <p:nvPr/>
        </p:nvSpPr>
        <p:spPr>
          <a:xfrm>
            <a:off x="2160720" y="4941720"/>
            <a:ext cx="82692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Text Box 111"/>
          <p:cNvSpPr/>
          <p:nvPr/>
        </p:nvSpPr>
        <p:spPr>
          <a:xfrm>
            <a:off x="2954160" y="504972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xpulsa residuos procedente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de la digest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Line 112"/>
          <p:cNvSpPr/>
          <p:nvPr/>
        </p:nvSpPr>
        <p:spPr>
          <a:xfrm>
            <a:off x="1405080" y="5913360"/>
            <a:ext cx="64908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Text Box 113"/>
          <p:cNvSpPr/>
          <p:nvPr/>
        </p:nvSpPr>
        <p:spPr>
          <a:xfrm>
            <a:off x="1981080" y="593244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xpulsa algunos fárma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Rectangle 114"/>
          <p:cNvSpPr/>
          <p:nvPr/>
        </p:nvSpPr>
        <p:spPr>
          <a:xfrm>
            <a:off x="4714920" y="3359160"/>
            <a:ext cx="1369800" cy="64620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lándulas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udorípa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Oval 115"/>
          <p:cNvSpPr/>
          <p:nvPr/>
        </p:nvSpPr>
        <p:spPr>
          <a:xfrm>
            <a:off x="5892840" y="4197240"/>
            <a:ext cx="792000" cy="828720"/>
          </a:xfrm>
          <a:prstGeom prst="ellipse">
            <a:avLst/>
          </a:prstGeom>
          <a:noFill/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8" name="AutoShape 116"/>
          <p:cNvCxnSpPr>
            <a:stCxn id="2227" idx="2"/>
            <a:endCxn id="2226" idx="2"/>
          </p:cNvCxnSpPr>
          <p:nvPr/>
        </p:nvCxnSpPr>
        <p:spPr>
          <a:xfrm rot="10800000">
            <a:off x="5400000" y="4004640"/>
            <a:ext cx="480240" cy="606960"/>
          </a:xfrm>
          <a:prstGeom prst="bentConnector2">
            <a:avLst/>
          </a:prstGeom>
          <a:ln w="19080">
            <a:solidFill>
              <a:srgbClr val="339933"/>
            </a:solidFill>
            <a:miter/>
          </a:ln>
        </p:spPr>
      </p:cxnSp>
      <p:sp>
        <p:nvSpPr>
          <p:cNvPr id="2229" name="Line 117"/>
          <p:cNvSpPr/>
          <p:nvPr/>
        </p:nvSpPr>
        <p:spPr>
          <a:xfrm flipH="1">
            <a:off x="5688000" y="4941720"/>
            <a:ext cx="3412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Text Box 118"/>
          <p:cNvSpPr/>
          <p:nvPr/>
        </p:nvSpPr>
        <p:spPr>
          <a:xfrm>
            <a:off x="4808520" y="552780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xcretan sudor (agua y sustancias de desech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1. LA SANG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42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El sistema circulatorio: Corazón, vasos sanguíneos y sang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ang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Compuesta por dos par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parte líquida (55%). Aspecto amarillento formado por agua (99%) y sustancias disuel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élulas sanguíne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(45%). Se forman en la médula ósea roja. Son de 3 tip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34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Arial"/>
              </a:rPr>
              <a:t>Glóbulos roj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400" spc="-1" strike="noStrike">
                <a:solidFill>
                  <a:srgbClr val="ff3300"/>
                </a:solidFill>
                <a:latin typeface="Arial"/>
              </a:rPr>
              <a:t>eritrocitos o hematí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las más abundantes. No tienen núcleo. Compuestos por hemoglobina (da color roj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34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Arial"/>
              </a:rPr>
              <a:t>Glóbulos blancos o leucocit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los menos abundantes. Tienen núcleo. Hay varios tip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34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Arial"/>
              </a:rPr>
              <a:t>Plaquetas o trombocit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son fragmentos de células. Se agrupan en pequeños grup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Función de la sangr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porte de sustancias sólidas como nutrientes o desechos y transporte de gases respiratorios. El CO2 es transportado por el plas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e disuelve bien en agua) y el O2 por la hemoglob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l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glóbulos roj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stribuye el calor corpo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fensa: l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glóbulos blanc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fienden al orga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trol de las hemorragias: l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plaquet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coagulan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ngre y detienen hemorrag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9" name="Picture 4" descr="Circul5-1-1"/>
          <p:cNvPicPr/>
          <p:nvPr/>
        </p:nvPicPr>
        <p:blipFill>
          <a:blip r:embed="rId1"/>
          <a:stretch/>
        </p:blipFill>
        <p:spPr>
          <a:xfrm>
            <a:off x="5975280" y="4765680"/>
            <a:ext cx="3168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2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2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2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20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20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0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0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0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0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0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0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20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20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20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0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6004d"/>
                </a:solidFill>
                <a:latin typeface="Arial"/>
                <a:ea typeface="Arial"/>
              </a:rPr>
              <a:t>9. EL SISTEMA URINARIO Y LA SALUD: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0" y="1599840"/>
            <a:ext cx="5292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tornos más frecue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feccion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istitis es la inflamación de la vejiga por una infe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ormación de cálculos (piedras)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recipitado de las sustancias transportadas por la orina formando arena o piedras, pueden bloquear conductos y si se expulsan es muy doloroso (cólico nefrític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la enfermedad renal es grave y de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cumplirse la función depuradora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cesario realizar u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modi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riñón artificial, aparato con una membrana que deja pasar la urea y sustancias de desecho y retiene las proteínas y sustancias grandes para devolverlas al paciente). Esta medida es temporal, hasta que se recupera el riñón o se hace un traspl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u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uen est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los riñ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onsumir con moderación alimentos ricos en proteí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arnes de caza y maris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Beber agua en abundanci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2 litros /día) disuelve desechos y los elimina fácil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3" name="Picture 5" descr="20090730094535-salud"/>
          <p:cNvPicPr/>
          <p:nvPr/>
        </p:nvPicPr>
        <p:blipFill>
          <a:blip r:embed="rId1"/>
          <a:stretch/>
        </p:blipFill>
        <p:spPr>
          <a:xfrm>
            <a:off x="5292720" y="2133720"/>
            <a:ext cx="385128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111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10. CUATRO SISTEMAS PARA UNA FUNCIÓN: LA NUTRIC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539280" y="3429000"/>
            <a:ext cx="842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 la nutrición cada una de nuestras células recibe los nutrientes que precisa y los utiliza. Para ello es necesario 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uncionamiento coordinado de cuatro sistem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irculatori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todas las células del organismo emplean los nutrientes aportados por la sangre para obtener energía y fabricar materia. Los residuos resultantes del metabolismo son vertidos a la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Digestivo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transforma los alimentos en nutrientes solubles que las células necesitan para su funciona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spiratori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hace circular el aire entre el organismo y el medio externo, captando oxígeno necesario para la respiración celular y eliminando CO</a:t>
            </a:r>
            <a:r>
              <a:rPr b="0" lang="es-ES" sz="16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Urinario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os riñones limpian la sangre de u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6" name="Picture 5" descr="Unidad5pres"/>
          <p:cNvPicPr/>
          <p:nvPr/>
        </p:nvPicPr>
        <p:blipFill>
          <a:blip r:embed="rId1"/>
          <a:stretch/>
        </p:blipFill>
        <p:spPr>
          <a:xfrm>
            <a:off x="1979640" y="1052640"/>
            <a:ext cx="49687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7" name="Organization Chart 2"/>
          <p:cNvGrpSpPr/>
          <p:nvPr/>
        </p:nvGrpSpPr>
        <p:grpSpPr>
          <a:xfrm>
            <a:off x="468360" y="2006640"/>
            <a:ext cx="8208720" cy="3763800"/>
            <a:chOff x="468360" y="2006640"/>
            <a:chExt cx="8208720" cy="3763800"/>
          </a:xfrm>
        </p:grpSpPr>
        <p:cxnSp>
          <p:nvCxnSpPr>
            <p:cNvPr id="2238" name="_s3076"/>
            <p:cNvCxnSpPr>
              <a:stCxn id="2239" idx="1"/>
              <a:endCxn id="2240" idx="2"/>
            </p:cNvCxnSpPr>
            <p:nvPr/>
          </p:nvCxnSpPr>
          <p:spPr>
            <a:xfrm rot="10800000">
              <a:off x="2762280" y="5061960"/>
              <a:ext cx="201240" cy="46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41" name="_s3077"/>
            <p:cNvCxnSpPr>
              <a:stCxn id="2240" idx="1"/>
              <a:endCxn id="2242" idx="2"/>
            </p:cNvCxnSpPr>
            <p:nvPr/>
          </p:nvCxnSpPr>
          <p:spPr>
            <a:xfrm rot="10800000">
              <a:off x="1346040" y="4158000"/>
              <a:ext cx="201240" cy="56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43" name="_s3078"/>
            <p:cNvCxnSpPr>
              <a:stCxn id="2242" idx="0"/>
              <a:endCxn id="2244" idx="2"/>
            </p:cNvCxnSpPr>
            <p:nvPr/>
          </p:nvCxnSpPr>
          <p:spPr>
            <a:xfrm flipH="1" flipV="1" rot="5400000">
              <a:off x="1838520" y="2773080"/>
              <a:ext cx="219240" cy="1203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45" name="_s3079"/>
            <p:cNvCxnSpPr>
              <a:stCxn id="2246" idx="0"/>
              <a:endCxn id="2247" idx="2"/>
            </p:cNvCxnSpPr>
            <p:nvPr/>
          </p:nvCxnSpPr>
          <p:spPr>
            <a:xfrm flipV="1">
              <a:off x="4087800" y="3264840"/>
              <a:ext cx="2160" cy="219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48" name="_s3080"/>
            <p:cNvCxnSpPr>
              <a:stCxn id="2249" idx="1"/>
              <a:endCxn id="2250" idx="2"/>
            </p:cNvCxnSpPr>
            <p:nvPr/>
          </p:nvCxnSpPr>
          <p:spPr>
            <a:xfrm rot="10800000">
              <a:off x="6046560" y="4158000"/>
              <a:ext cx="201240" cy="56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1" name="_s3081"/>
            <p:cNvCxnSpPr>
              <a:stCxn id="2250" idx="0"/>
              <a:endCxn id="2252" idx="2"/>
            </p:cNvCxnSpPr>
            <p:nvPr/>
          </p:nvCxnSpPr>
          <p:spPr>
            <a:xfrm flipH="1" flipV="1" rot="5400000">
              <a:off x="6375600" y="2936520"/>
              <a:ext cx="219240" cy="876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3" name="_s3082"/>
            <p:cNvCxnSpPr>
              <a:stCxn id="2252" idx="0"/>
              <a:endCxn id="2254" idx="2"/>
            </p:cNvCxnSpPr>
            <p:nvPr/>
          </p:nvCxnSpPr>
          <p:spPr>
            <a:xfrm flipV="1" rot="16200000">
              <a:off x="5638680" y="1376280"/>
              <a:ext cx="219240" cy="23497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5" name="_s3083"/>
            <p:cNvCxnSpPr>
              <a:stCxn id="2247" idx="0"/>
              <a:endCxn id="2254" idx="2"/>
            </p:cNvCxnSpPr>
            <p:nvPr/>
          </p:nvCxnSpPr>
          <p:spPr>
            <a:xfrm flipH="1" flipV="1" rot="5400000">
              <a:off x="4221000" y="2307960"/>
              <a:ext cx="219240" cy="48636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6" name="_s3084"/>
            <p:cNvCxnSpPr>
              <a:stCxn id="2244" idx="0"/>
              <a:endCxn id="2254" idx="2"/>
            </p:cNvCxnSpPr>
            <p:nvPr/>
          </p:nvCxnSpPr>
          <p:spPr>
            <a:xfrm flipH="1" flipV="1" rot="5400000">
              <a:off x="3451680" y="1539000"/>
              <a:ext cx="219240" cy="202428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4" name="_s3085"/>
            <p:cNvSpPr/>
            <p:nvPr/>
          </p:nvSpPr>
          <p:spPr>
            <a:xfrm>
              <a:off x="3530520" y="2006640"/>
              <a:ext cx="2084040" cy="435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LA NUTRI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_s3086"/>
            <p:cNvSpPr/>
            <p:nvPr/>
          </p:nvSpPr>
          <p:spPr>
            <a:xfrm>
              <a:off x="1881720" y="2661120"/>
              <a:ext cx="1335960" cy="604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ecesi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_s3087"/>
            <p:cNvSpPr/>
            <p:nvPr/>
          </p:nvSpPr>
          <p:spPr>
            <a:xfrm>
              <a:off x="3419640" y="2661120"/>
              <a:ext cx="1335960" cy="604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porcio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 las célu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_s3088"/>
            <p:cNvSpPr/>
            <p:nvPr/>
          </p:nvSpPr>
          <p:spPr>
            <a:xfrm>
              <a:off x="6255000" y="2661120"/>
              <a:ext cx="1335960" cy="604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du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_s3089"/>
            <p:cNvSpPr/>
            <p:nvPr/>
          </p:nvSpPr>
          <p:spPr>
            <a:xfrm>
              <a:off x="5168880" y="3484440"/>
              <a:ext cx="1755360" cy="674280"/>
            </a:xfrm>
            <a:prstGeom prst="roundRect">
              <a:avLst>
                <a:gd name="adj" fmla="val 16667"/>
              </a:avLst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esech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O2, 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_s3090"/>
            <p:cNvSpPr/>
            <p:nvPr/>
          </p:nvSpPr>
          <p:spPr>
            <a:xfrm>
              <a:off x="6247800" y="4377600"/>
              <a:ext cx="2429280" cy="6850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XCRE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A través 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istema Urin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_s3091"/>
            <p:cNvSpPr/>
            <p:nvPr/>
          </p:nvSpPr>
          <p:spPr>
            <a:xfrm>
              <a:off x="3210840" y="3484440"/>
              <a:ext cx="1755720" cy="674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Materia prop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nergía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pa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ealizar fun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_s3092"/>
            <p:cNvSpPr/>
            <p:nvPr/>
          </p:nvSpPr>
          <p:spPr>
            <a:xfrm>
              <a:off x="468360" y="3484440"/>
              <a:ext cx="1755720" cy="6742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OXÍG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_s3093"/>
            <p:cNvSpPr/>
            <p:nvPr/>
          </p:nvSpPr>
          <p:spPr>
            <a:xfrm>
              <a:off x="1547640" y="4377600"/>
              <a:ext cx="2429280" cy="685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enetra a travé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VENTILACIÓN PULMON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istema respirato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_s3094"/>
            <p:cNvSpPr/>
            <p:nvPr/>
          </p:nvSpPr>
          <p:spPr>
            <a:xfrm>
              <a:off x="2963880" y="5281560"/>
              <a:ext cx="1667160" cy="4888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ABORAN 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 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Verdana"/>
                </a:rPr>
                <a:t>HOMEOST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7" name="AutoShape 23"/>
            <p:cNvCxnSpPr/>
            <p:nvPr/>
          </p:nvCxnSpPr>
          <p:spPr>
            <a:xfrm rot="5400000">
              <a:off x="5780880" y="3946320"/>
              <a:ext cx="494280" cy="276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76183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SUM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QUEMA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1" name="Picture 5" descr="esq-nutric"/>
          <p:cNvPicPr/>
          <p:nvPr/>
        </p:nvPicPr>
        <p:blipFill>
          <a:blip r:embed="rId1"/>
          <a:stretch/>
        </p:blipFill>
        <p:spPr>
          <a:xfrm>
            <a:off x="266760" y="1557360"/>
            <a:ext cx="88772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330066"/>
                </a:solidFill>
                <a:latin typeface="Arial"/>
              </a:rPr>
              <a:t>2. ENFERMEDADES RELACIONADAS CON LA SANGRE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NEMI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u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a sangre tiene poca hemoglobina o poca concentración de glóbulos ro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nemia más común se produce por </a:t>
            </a: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falta de hier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esencial en la hemoglobi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omas: fatiga, perdida de vitalidad por falta de oxígeno en las célu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EUCEM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un </a:t>
            </a: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cánc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afecta a las células de la médula ósea (órgano encargado de fabricar la sang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ifiesta un aumento de glóbulos blancos que no luchan contra las infecciones y una disminución de glóbulos rojos y plaque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EMOFIL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ermedad hereditaria que se manifiesta por la aparición de hemorragias debidas a problemas en la coagulación de la sang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us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alta de algún factor de coagulación por lo que la coagulación es más l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0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0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0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0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3. LOS VASOS SANGUINE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os tubos que conducen la sangre se llaman </a:t>
            </a:r>
            <a:r>
              <a:rPr b="0" lang="es-ES" sz="1900" spc="-1" strike="noStrike" u="sng">
                <a:solidFill>
                  <a:srgbClr val="000000"/>
                </a:solidFill>
                <a:uFillTx/>
                <a:latin typeface="Arial"/>
              </a:rPr>
              <a:t>vasos sanguíneo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a bomba encargada de impulsar la sangre por ellos es el </a:t>
            </a:r>
            <a:r>
              <a:rPr b="0" lang="es-ES" sz="1900" spc="-1" strike="noStrike" u="sng">
                <a:solidFill>
                  <a:srgbClr val="000000"/>
                </a:solidFill>
                <a:uFillTx/>
                <a:latin typeface="Arial"/>
              </a:rPr>
              <a:t>coraz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uestro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sistema circulatorio es cerrad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ya que la sangre siempre circula por el interior de los vasos sanguíneos. </a:t>
            </a:r>
            <a:r>
              <a:rPr b="0" lang="es-ES" sz="1900" spc="-1" strike="noStrike">
                <a:solidFill>
                  <a:srgbClr val="ff3300"/>
                </a:solidFill>
                <a:latin typeface="Arial"/>
              </a:rPr>
              <a:t>Sólo los capilares permiten el intercambio con las célul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 u="sng">
                <a:solidFill>
                  <a:srgbClr val="000000"/>
                </a:solidFill>
                <a:uFillTx/>
                <a:latin typeface="Arial"/>
              </a:rPr>
              <a:t>Hay tres tipos de vas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Arterias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llevan la sangre desde el corazón hacia los órgan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ede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uert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potente musculatura, pero a la vez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lást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ducen sangre 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levada pre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hacen má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i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onforme se alejan del coraz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Vena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: conducen la sangre desde los órganos al corazó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ede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ás fi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que las arte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ducen sangre 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baja pre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ienen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válvul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que impiden el retroceso de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hacen má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grues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onforme se acercan al coraz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Capilare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: vasos de pequeñísimo diámetro. Forman redes en el interior de los órganos que conectan arterias y ven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0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0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0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0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0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4" name="Picture 135" descr="229ALMP09H03"/>
          <p:cNvPicPr/>
          <p:nvPr/>
        </p:nvPicPr>
        <p:blipFill>
          <a:blip r:embed="rId1"/>
          <a:stretch/>
        </p:blipFill>
        <p:spPr>
          <a:xfrm>
            <a:off x="196920" y="1371600"/>
            <a:ext cx="4680000" cy="4467240"/>
          </a:xfrm>
          <a:prstGeom prst="rect">
            <a:avLst/>
          </a:prstGeom>
          <a:ln w="0">
            <a:noFill/>
          </a:ln>
        </p:spPr>
      </p:pic>
      <p:sp>
        <p:nvSpPr>
          <p:cNvPr id="2085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os vasos sanguí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Line 93"/>
          <p:cNvSpPr/>
          <p:nvPr/>
        </p:nvSpPr>
        <p:spPr>
          <a:xfrm>
            <a:off x="1479600" y="5300640"/>
            <a:ext cx="73080" cy="5047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Rectangle 92"/>
          <p:cNvSpPr/>
          <p:nvPr/>
        </p:nvSpPr>
        <p:spPr>
          <a:xfrm>
            <a:off x="1012680" y="5769000"/>
            <a:ext cx="1116000" cy="28908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r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94"/>
          <p:cNvSpPr/>
          <p:nvPr/>
        </p:nvSpPr>
        <p:spPr>
          <a:xfrm>
            <a:off x="2703600" y="4689360"/>
            <a:ext cx="252360" cy="46836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Rectangle 95"/>
          <p:cNvSpPr/>
          <p:nvPr/>
        </p:nvSpPr>
        <p:spPr>
          <a:xfrm>
            <a:off x="2487600" y="5084640"/>
            <a:ext cx="901800" cy="2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V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Rectangle 96"/>
          <p:cNvSpPr/>
          <p:nvPr/>
        </p:nvSpPr>
        <p:spPr>
          <a:xfrm>
            <a:off x="4896000" y="4365720"/>
            <a:ext cx="4068720" cy="16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Órganos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Órganos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AutoShape 97"/>
          <p:cNvSpPr/>
          <p:nvPr/>
        </p:nvSpPr>
        <p:spPr>
          <a:xfrm>
            <a:off x="6118200" y="4545000"/>
            <a:ext cx="1692360" cy="503280"/>
          </a:xfrm>
          <a:prstGeom prst="rightArrow">
            <a:avLst>
              <a:gd name="adj1" fmla="val 50000"/>
              <a:gd name="adj2" fmla="val 84067"/>
            </a:avLst>
          </a:prstGeom>
          <a:solidFill>
            <a:srgbClr val="bbe0e3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Text Box 98"/>
          <p:cNvSpPr/>
          <p:nvPr/>
        </p:nvSpPr>
        <p:spPr>
          <a:xfrm>
            <a:off x="6496200" y="440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Calibri"/>
              </a:rPr>
              <a:t>VE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AutoShape 99"/>
          <p:cNvSpPr/>
          <p:nvPr/>
        </p:nvSpPr>
        <p:spPr>
          <a:xfrm rot="10800000">
            <a:off x="6119280" y="5373720"/>
            <a:ext cx="1692360" cy="503280"/>
          </a:xfrm>
          <a:prstGeom prst="rightArrow">
            <a:avLst>
              <a:gd name="adj1" fmla="val 50000"/>
              <a:gd name="adj2" fmla="val 84067"/>
            </a:avLst>
          </a:prstGeom>
          <a:solidFill>
            <a:srgbClr val="f8715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Text Box 100"/>
          <p:cNvSpPr/>
          <p:nvPr/>
        </p:nvSpPr>
        <p:spPr>
          <a:xfrm>
            <a:off x="6497640" y="522936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Calibri"/>
              </a:rPr>
              <a:t>ARTE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Text Box 101"/>
          <p:cNvSpPr/>
          <p:nvPr/>
        </p:nvSpPr>
        <p:spPr>
          <a:xfrm>
            <a:off x="6551640" y="54608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0000"/>
                </a:solidFill>
                <a:latin typeface="Calibri"/>
              </a:rPr>
              <a:t>sang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10"/>
          <p:cNvSpPr/>
          <p:nvPr/>
        </p:nvSpPr>
        <p:spPr>
          <a:xfrm flipV="1">
            <a:off x="2627280" y="1521000"/>
            <a:ext cx="612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Text Box 111"/>
          <p:cNvSpPr/>
          <p:nvPr/>
        </p:nvSpPr>
        <p:spPr>
          <a:xfrm>
            <a:off x="3168720" y="126828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Válvula ven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12"/>
          <p:cNvSpPr/>
          <p:nvPr/>
        </p:nvSpPr>
        <p:spPr>
          <a:xfrm flipV="1">
            <a:off x="2916360" y="2060280"/>
            <a:ext cx="395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Text Box 113"/>
          <p:cNvSpPr/>
          <p:nvPr/>
        </p:nvSpPr>
        <p:spPr>
          <a:xfrm>
            <a:off x="3276720" y="1881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ndote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14"/>
          <p:cNvSpPr/>
          <p:nvPr/>
        </p:nvSpPr>
        <p:spPr>
          <a:xfrm flipV="1">
            <a:off x="2843280" y="2421000"/>
            <a:ext cx="684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Text Box 115"/>
          <p:cNvSpPr/>
          <p:nvPr/>
        </p:nvSpPr>
        <p:spPr>
          <a:xfrm>
            <a:off x="3492360" y="2276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úsculo l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16"/>
          <p:cNvSpPr/>
          <p:nvPr/>
        </p:nvSpPr>
        <p:spPr>
          <a:xfrm flipH="1" flipV="1">
            <a:off x="1187280" y="2097000"/>
            <a:ext cx="14472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17"/>
          <p:cNvSpPr/>
          <p:nvPr/>
        </p:nvSpPr>
        <p:spPr>
          <a:xfrm>
            <a:off x="2951280" y="2816280"/>
            <a:ext cx="649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Text Box 118"/>
          <p:cNvSpPr/>
          <p:nvPr/>
        </p:nvSpPr>
        <p:spPr>
          <a:xfrm>
            <a:off x="3529080" y="2673360"/>
            <a:ext cx="11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Tejido cone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Text Box 119"/>
          <p:cNvSpPr/>
          <p:nvPr/>
        </p:nvSpPr>
        <p:spPr>
          <a:xfrm>
            <a:off x="1044720" y="184464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ndote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20"/>
          <p:cNvSpPr/>
          <p:nvPr/>
        </p:nvSpPr>
        <p:spPr>
          <a:xfrm flipH="1" flipV="1">
            <a:off x="1007640" y="2565360"/>
            <a:ext cx="14292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 Box 121"/>
          <p:cNvSpPr/>
          <p:nvPr/>
        </p:nvSpPr>
        <p:spPr>
          <a:xfrm>
            <a:off x="108000" y="2097000"/>
            <a:ext cx="9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úsculo l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22"/>
          <p:cNvSpPr/>
          <p:nvPr/>
        </p:nvSpPr>
        <p:spPr>
          <a:xfrm flipH="1" flipV="1">
            <a:off x="610920" y="3068280"/>
            <a:ext cx="43164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Text Box 123"/>
          <p:cNvSpPr/>
          <p:nvPr/>
        </p:nvSpPr>
        <p:spPr>
          <a:xfrm>
            <a:off x="34920" y="2565360"/>
            <a:ext cx="11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Tejido cone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26"/>
          <p:cNvSpPr/>
          <p:nvPr/>
        </p:nvSpPr>
        <p:spPr>
          <a:xfrm>
            <a:off x="3816360" y="429264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Text Box 127"/>
          <p:cNvSpPr/>
          <p:nvPr/>
        </p:nvSpPr>
        <p:spPr>
          <a:xfrm>
            <a:off x="3600360" y="4905360"/>
            <a:ext cx="10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Capil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 Box 136"/>
          <p:cNvSpPr/>
          <p:nvPr/>
        </p:nvSpPr>
        <p:spPr>
          <a:xfrm>
            <a:off x="6443640" y="46274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9999"/>
                </a:solidFill>
                <a:latin typeface="Calibri"/>
              </a:rPr>
              <a:t>sang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4. EL CORAZ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3995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us paredes son de tejido muscular (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miocardi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) su interior está hueco y dividido en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cuatro cavidad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os aurícula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avidades superiores donde llega la sangre conducida por las venas. Paredes finas y extens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os ventrícul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vidades inferiores por donde la sangre sale del corazón a través de las arterias. Paredes más gruesas y potentes (ventrículo izquier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5" name="Picture 7" descr="si_0329"/>
          <p:cNvPicPr/>
          <p:nvPr/>
        </p:nvPicPr>
        <p:blipFill>
          <a:blip r:embed="rId1"/>
          <a:stretch/>
        </p:blipFill>
        <p:spPr>
          <a:xfrm>
            <a:off x="4140360" y="1125360"/>
            <a:ext cx="5003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6" name="Group 182"/>
          <p:cNvGrpSpPr/>
          <p:nvPr/>
        </p:nvGrpSpPr>
        <p:grpSpPr>
          <a:xfrm>
            <a:off x="250920" y="692280"/>
            <a:ext cx="8496720" cy="5760360"/>
            <a:chOff x="250920" y="692280"/>
            <a:chExt cx="8496720" cy="5760360"/>
          </a:xfrm>
        </p:grpSpPr>
        <p:sp>
          <p:nvSpPr>
            <p:cNvPr id="2117" name="Rectangle 93"/>
            <p:cNvSpPr/>
            <p:nvPr/>
          </p:nvSpPr>
          <p:spPr>
            <a:xfrm>
              <a:off x="408960" y="692280"/>
              <a:ext cx="7994520" cy="57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Rectangle 94"/>
            <p:cNvSpPr/>
            <p:nvPr/>
          </p:nvSpPr>
          <p:spPr>
            <a:xfrm>
              <a:off x="408960" y="692280"/>
              <a:ext cx="7994520" cy="786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alibri"/>
                </a:rPr>
                <a:t>Vías de entrada y sal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AutoShape 138"/>
            <p:cNvSpPr/>
            <p:nvPr/>
          </p:nvSpPr>
          <p:spPr>
            <a:xfrm>
              <a:off x="2005560" y="2269080"/>
              <a:ext cx="4705200" cy="3710520"/>
            </a:xfrm>
            <a:custGeom>
              <a:avLst/>
              <a:gdLst>
                <a:gd name="textAreaLeft" fmla="*/ 979200 w 4705200"/>
                <a:gd name="textAreaRight" fmla="*/ 3726000 w 4705200"/>
                <a:gd name="textAreaTop" fmla="*/ 772560 h 3710520"/>
                <a:gd name="textAreaBottom" fmla="*/ 2937960 h 371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cc99">
                <a:alpha val="60000"/>
              </a:srgbClr>
            </a:solidFill>
            <a:ln w="9360">
              <a:solidFill>
                <a:srgbClr val="f871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Line 139"/>
            <p:cNvSpPr/>
            <p:nvPr/>
          </p:nvSpPr>
          <p:spPr>
            <a:xfrm>
              <a:off x="4358520" y="1872000"/>
              <a:ext cx="0" cy="43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Line 140"/>
            <p:cNvSpPr/>
            <p:nvPr/>
          </p:nvSpPr>
          <p:spPr>
            <a:xfrm>
              <a:off x="1910520" y="4005720"/>
              <a:ext cx="451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Text Box 141"/>
            <p:cNvSpPr/>
            <p:nvPr/>
          </p:nvSpPr>
          <p:spPr>
            <a:xfrm>
              <a:off x="2508120" y="4138560"/>
              <a:ext cx="197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alibri"/>
                </a:rPr>
                <a:t>Ventrículo derech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Text Box 142"/>
            <p:cNvSpPr/>
            <p:nvPr/>
          </p:nvSpPr>
          <p:spPr>
            <a:xfrm>
              <a:off x="4205160" y="4135320"/>
              <a:ext cx="197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alibri"/>
                </a:rPr>
                <a:t>Ventrículo izquier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Text Box 144"/>
            <p:cNvSpPr/>
            <p:nvPr/>
          </p:nvSpPr>
          <p:spPr>
            <a:xfrm>
              <a:off x="2287800" y="2662200"/>
              <a:ext cx="197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alibri"/>
                </a:rPr>
                <a:t>Aurícula derech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Text Box 145"/>
            <p:cNvSpPr/>
            <p:nvPr/>
          </p:nvSpPr>
          <p:spPr>
            <a:xfrm>
              <a:off x="4358520" y="2854080"/>
              <a:ext cx="197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alibri"/>
                </a:rPr>
                <a:t>Aurícula izquier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AutoShape 146"/>
            <p:cNvSpPr/>
            <p:nvPr/>
          </p:nvSpPr>
          <p:spPr>
            <a:xfrm flipH="1" rot="14227800">
              <a:off x="1561680" y="1704240"/>
              <a:ext cx="1102680" cy="1411560"/>
            </a:xfrm>
            <a:custGeom>
              <a:avLst/>
              <a:gdLst>
                <a:gd name="textAreaLeft" fmla="*/ 159840 w 1102680"/>
                <a:gd name="textAreaRight" fmla="*/ 942840 w 1102680"/>
                <a:gd name="textAreaTop" fmla="*/ 207360 h 1411560"/>
                <a:gd name="textAreaBottom" fmla="*/ 1204200 h 141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88" y="9784"/>
                  </a:moveTo>
                  <a:cubicBezTo>
                    <a:pt x="17581" y="6147"/>
                    <a:pt x="14471" y="3441"/>
                    <a:pt x="10800" y="3441"/>
                  </a:cubicBezTo>
                  <a:cubicBezTo>
                    <a:pt x="10596" y="3440"/>
                    <a:pt x="10392" y="3449"/>
                    <a:pt x="10190" y="3466"/>
                  </a:cubicBezTo>
                  <a:lnTo>
                    <a:pt x="9904" y="37"/>
                  </a:lnTo>
                  <a:cubicBezTo>
                    <a:pt x="10202" y="12"/>
                    <a:pt x="10501" y="-1"/>
                    <a:pt x="10800" y="0"/>
                  </a:cubicBezTo>
                  <a:cubicBezTo>
                    <a:pt x="16188" y="0"/>
                    <a:pt x="20752" y="3972"/>
                    <a:pt x="21496" y="9309"/>
                  </a:cubicBezTo>
                  <a:lnTo>
                    <a:pt x="24170" y="8936"/>
                  </a:lnTo>
                  <a:lnTo>
                    <a:pt x="20403" y="13925"/>
                  </a:lnTo>
                  <a:lnTo>
                    <a:pt x="15414" y="10156"/>
                  </a:lnTo>
                  <a:lnTo>
                    <a:pt x="18088" y="9784"/>
                  </a:lnTo>
                  <a:close/>
                </a:path>
              </a:pathLst>
            </a:custGeom>
            <a:solidFill>
              <a:srgbClr val="cc00cc">
                <a:alpha val="90000"/>
              </a:srgbClr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AutoShape 147"/>
            <p:cNvSpPr/>
            <p:nvPr/>
          </p:nvSpPr>
          <p:spPr>
            <a:xfrm>
              <a:off x="1441800" y="1872000"/>
              <a:ext cx="1505160" cy="1183680"/>
            </a:xfrm>
            <a:custGeom>
              <a:avLst/>
              <a:gdLst>
                <a:gd name="textAreaLeft" fmla="*/ 219600 w 1505160"/>
                <a:gd name="textAreaRight" fmla="*/ 1285560 w 1505160"/>
                <a:gd name="textAreaTop" fmla="*/ 173880 h 1183680"/>
                <a:gd name="textAreaBottom" fmla="*/ 1009800 h 118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88" y="9784"/>
                  </a:moveTo>
                  <a:cubicBezTo>
                    <a:pt x="17581" y="6147"/>
                    <a:pt x="14471" y="3441"/>
                    <a:pt x="10800" y="3441"/>
                  </a:cubicBezTo>
                  <a:cubicBezTo>
                    <a:pt x="10596" y="3440"/>
                    <a:pt x="10392" y="3449"/>
                    <a:pt x="10190" y="3466"/>
                  </a:cubicBezTo>
                  <a:lnTo>
                    <a:pt x="9904" y="37"/>
                  </a:lnTo>
                  <a:cubicBezTo>
                    <a:pt x="10202" y="12"/>
                    <a:pt x="10501" y="-1"/>
                    <a:pt x="10800" y="0"/>
                  </a:cubicBezTo>
                  <a:cubicBezTo>
                    <a:pt x="16188" y="0"/>
                    <a:pt x="20752" y="3972"/>
                    <a:pt x="21496" y="9309"/>
                  </a:cubicBezTo>
                  <a:lnTo>
                    <a:pt x="24170" y="8936"/>
                  </a:lnTo>
                  <a:lnTo>
                    <a:pt x="20403" y="13925"/>
                  </a:lnTo>
                  <a:lnTo>
                    <a:pt x="15414" y="10156"/>
                  </a:lnTo>
                  <a:lnTo>
                    <a:pt x="18088" y="9784"/>
                  </a:lnTo>
                  <a:close/>
                </a:path>
              </a:pathLst>
            </a:custGeom>
            <a:solidFill>
              <a:srgbClr val="cc00cc">
                <a:alpha val="90000"/>
              </a:srgbClr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Text Box 148"/>
            <p:cNvSpPr/>
            <p:nvPr/>
          </p:nvSpPr>
          <p:spPr>
            <a:xfrm>
              <a:off x="500040" y="1635480"/>
              <a:ext cx="169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alibri"/>
                </a:rPr>
                <a:t>Venas cav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AutoShape 149"/>
            <p:cNvSpPr/>
            <p:nvPr/>
          </p:nvSpPr>
          <p:spPr>
            <a:xfrm flipH="1" rot="20547600">
              <a:off x="4996800" y="2025360"/>
              <a:ext cx="1397520" cy="954000"/>
            </a:xfrm>
            <a:custGeom>
              <a:avLst/>
              <a:gdLst>
                <a:gd name="textAreaLeft" fmla="*/ 203040 w 1397520"/>
                <a:gd name="textAreaRight" fmla="*/ 1194480 w 1397520"/>
                <a:gd name="textAreaTop" fmla="*/ 138960 h 954000"/>
                <a:gd name="textAreaBottom" fmla="*/ 815040 h 95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88" y="9784"/>
                  </a:moveTo>
                  <a:cubicBezTo>
                    <a:pt x="17581" y="6147"/>
                    <a:pt x="14471" y="3441"/>
                    <a:pt x="10800" y="3441"/>
                  </a:cubicBezTo>
                  <a:cubicBezTo>
                    <a:pt x="10596" y="3440"/>
                    <a:pt x="10392" y="3449"/>
                    <a:pt x="10190" y="3466"/>
                  </a:cubicBezTo>
                  <a:lnTo>
                    <a:pt x="9904" y="37"/>
                  </a:lnTo>
                  <a:cubicBezTo>
                    <a:pt x="10202" y="12"/>
                    <a:pt x="10501" y="-1"/>
                    <a:pt x="10800" y="0"/>
                  </a:cubicBezTo>
                  <a:cubicBezTo>
                    <a:pt x="16188" y="0"/>
                    <a:pt x="20752" y="3972"/>
                    <a:pt x="21496" y="9309"/>
                  </a:cubicBezTo>
                  <a:lnTo>
                    <a:pt x="24170" y="8936"/>
                  </a:lnTo>
                  <a:lnTo>
                    <a:pt x="20403" y="13925"/>
                  </a:lnTo>
                  <a:lnTo>
                    <a:pt x="15414" y="10156"/>
                  </a:lnTo>
                  <a:lnTo>
                    <a:pt x="18088" y="978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AutoShape 150"/>
            <p:cNvSpPr/>
            <p:nvPr/>
          </p:nvSpPr>
          <p:spPr>
            <a:xfrm flipH="1" rot="21189000">
              <a:off x="5784840" y="2108880"/>
              <a:ext cx="1410120" cy="1026720"/>
            </a:xfrm>
            <a:custGeom>
              <a:avLst/>
              <a:gdLst>
                <a:gd name="textAreaLeft" fmla="*/ 207360 w 1410120"/>
                <a:gd name="textAreaRight" fmla="*/ 1202760 w 1410120"/>
                <a:gd name="textAreaTop" fmla="*/ 149400 h 1026720"/>
                <a:gd name="textAreaBottom" fmla="*/ 877320 h 102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88" y="9784"/>
                  </a:moveTo>
                  <a:cubicBezTo>
                    <a:pt x="17581" y="6147"/>
                    <a:pt x="14471" y="3441"/>
                    <a:pt x="10800" y="3441"/>
                  </a:cubicBezTo>
                  <a:cubicBezTo>
                    <a:pt x="10596" y="3440"/>
                    <a:pt x="10392" y="3449"/>
                    <a:pt x="10190" y="3466"/>
                  </a:cubicBezTo>
                  <a:lnTo>
                    <a:pt x="9904" y="37"/>
                  </a:lnTo>
                  <a:cubicBezTo>
                    <a:pt x="10202" y="12"/>
                    <a:pt x="10501" y="-1"/>
                    <a:pt x="10800" y="0"/>
                  </a:cubicBezTo>
                  <a:cubicBezTo>
                    <a:pt x="16188" y="0"/>
                    <a:pt x="20752" y="3972"/>
                    <a:pt x="21496" y="9309"/>
                  </a:cubicBezTo>
                  <a:lnTo>
                    <a:pt x="24170" y="8936"/>
                  </a:lnTo>
                  <a:lnTo>
                    <a:pt x="20403" y="13925"/>
                  </a:lnTo>
                  <a:lnTo>
                    <a:pt x="15414" y="10156"/>
                  </a:lnTo>
                  <a:lnTo>
                    <a:pt x="18088" y="978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AutoShape 152"/>
            <p:cNvSpPr/>
            <p:nvPr/>
          </p:nvSpPr>
          <p:spPr>
            <a:xfrm rot="6667200">
              <a:off x="5916240" y="1675800"/>
              <a:ext cx="1343160" cy="1373400"/>
            </a:xfrm>
            <a:custGeom>
              <a:avLst/>
              <a:gdLst>
                <a:gd name="textAreaLeft" fmla="*/ 198360 w 1343160"/>
                <a:gd name="textAreaRight" fmla="*/ 1144800 w 1343160"/>
                <a:gd name="textAreaTop" fmla="*/ 199080 h 1373400"/>
                <a:gd name="textAreaBottom" fmla="*/ 1174320 h 13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88" y="9784"/>
                  </a:moveTo>
                  <a:cubicBezTo>
                    <a:pt x="17581" y="6147"/>
                    <a:pt x="14471" y="3441"/>
                    <a:pt x="10800" y="3441"/>
                  </a:cubicBezTo>
                  <a:cubicBezTo>
                    <a:pt x="10596" y="3440"/>
                    <a:pt x="10392" y="3449"/>
                    <a:pt x="10190" y="3466"/>
                  </a:cubicBezTo>
                  <a:lnTo>
                    <a:pt x="9904" y="37"/>
                  </a:lnTo>
                  <a:cubicBezTo>
                    <a:pt x="10202" y="12"/>
                    <a:pt x="10501" y="-1"/>
                    <a:pt x="10800" y="0"/>
                  </a:cubicBezTo>
                  <a:cubicBezTo>
                    <a:pt x="16188" y="0"/>
                    <a:pt x="20752" y="3972"/>
                    <a:pt x="21496" y="9309"/>
                  </a:cubicBezTo>
                  <a:lnTo>
                    <a:pt x="24170" y="8936"/>
                  </a:lnTo>
                  <a:lnTo>
                    <a:pt x="20403" y="13925"/>
                  </a:lnTo>
                  <a:lnTo>
                    <a:pt x="15414" y="10156"/>
                  </a:lnTo>
                  <a:lnTo>
                    <a:pt x="18088" y="978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AutoShape 153"/>
            <p:cNvSpPr/>
            <p:nvPr/>
          </p:nvSpPr>
          <p:spPr>
            <a:xfrm rot="6667200">
              <a:off x="5774400" y="2390400"/>
              <a:ext cx="1186920" cy="1256760"/>
            </a:xfrm>
            <a:custGeom>
              <a:avLst/>
              <a:gdLst>
                <a:gd name="textAreaLeft" fmla="*/ 173880 w 1186920"/>
                <a:gd name="textAreaRight" fmla="*/ 1013040 w 1186920"/>
                <a:gd name="textAreaTop" fmla="*/ 182520 h 1256760"/>
                <a:gd name="textAreaBottom" fmla="*/ 1074240 h 125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88" y="9784"/>
                  </a:moveTo>
                  <a:cubicBezTo>
                    <a:pt x="17581" y="6147"/>
                    <a:pt x="14471" y="3441"/>
                    <a:pt x="10800" y="3441"/>
                  </a:cubicBezTo>
                  <a:cubicBezTo>
                    <a:pt x="10596" y="3440"/>
                    <a:pt x="10392" y="3449"/>
                    <a:pt x="10190" y="3466"/>
                  </a:cubicBezTo>
                  <a:lnTo>
                    <a:pt x="9904" y="37"/>
                  </a:lnTo>
                  <a:cubicBezTo>
                    <a:pt x="10202" y="12"/>
                    <a:pt x="10501" y="-1"/>
                    <a:pt x="10800" y="0"/>
                  </a:cubicBezTo>
                  <a:cubicBezTo>
                    <a:pt x="16188" y="0"/>
                    <a:pt x="20752" y="3972"/>
                    <a:pt x="21496" y="9309"/>
                  </a:cubicBezTo>
                  <a:lnTo>
                    <a:pt x="24170" y="8936"/>
                  </a:lnTo>
                  <a:lnTo>
                    <a:pt x="20403" y="13925"/>
                  </a:lnTo>
                  <a:lnTo>
                    <a:pt x="15414" y="10156"/>
                  </a:lnTo>
                  <a:lnTo>
                    <a:pt x="18088" y="978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Text Box 154"/>
            <p:cNvSpPr/>
            <p:nvPr/>
          </p:nvSpPr>
          <p:spPr>
            <a:xfrm>
              <a:off x="4603320" y="1482120"/>
              <a:ext cx="414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alibri"/>
                </a:rPr>
                <a:t>Venas pulmon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AutoShape 156"/>
            <p:cNvSpPr/>
            <p:nvPr/>
          </p:nvSpPr>
          <p:spPr>
            <a:xfrm flipH="1" rot="16261200">
              <a:off x="5283720" y="3975840"/>
              <a:ext cx="1674000" cy="2207160"/>
            </a:xfrm>
            <a:custGeom>
              <a:avLst/>
              <a:gdLst>
                <a:gd name="textAreaLeft" fmla="*/ 243360 w 1674000"/>
                <a:gd name="textAreaRight" fmla="*/ 1430640 w 1674000"/>
                <a:gd name="textAreaTop" fmla="*/ 323640 h 2207160"/>
                <a:gd name="textAreaBottom" fmla="*/ 1883520 h 220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88" y="9784"/>
                  </a:moveTo>
                  <a:cubicBezTo>
                    <a:pt x="17581" y="6147"/>
                    <a:pt x="14471" y="3441"/>
                    <a:pt x="10800" y="3441"/>
                  </a:cubicBezTo>
                  <a:cubicBezTo>
                    <a:pt x="10474" y="3440"/>
                    <a:pt x="10150" y="3462"/>
                    <a:pt x="9828" y="3505"/>
                  </a:cubicBezTo>
                  <a:lnTo>
                    <a:pt x="9373" y="94"/>
                  </a:lnTo>
                  <a:cubicBezTo>
                    <a:pt x="9846" y="31"/>
                    <a:pt x="10322" y="-1"/>
                    <a:pt x="10800" y="0"/>
                  </a:cubicBezTo>
                  <a:cubicBezTo>
                    <a:pt x="16188" y="0"/>
                    <a:pt x="20752" y="3972"/>
                    <a:pt x="21496" y="9309"/>
                  </a:cubicBezTo>
                  <a:lnTo>
                    <a:pt x="24170" y="8936"/>
                  </a:lnTo>
                  <a:lnTo>
                    <a:pt x="20403" y="13925"/>
                  </a:lnTo>
                  <a:lnTo>
                    <a:pt x="15414" y="10156"/>
                  </a:lnTo>
                  <a:lnTo>
                    <a:pt x="18088" y="978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AutoShape 157"/>
            <p:cNvSpPr/>
            <p:nvPr/>
          </p:nvSpPr>
          <p:spPr>
            <a:xfrm rot="5400000">
              <a:off x="1759680" y="4019760"/>
              <a:ext cx="1674000" cy="2119680"/>
            </a:xfrm>
            <a:custGeom>
              <a:avLst/>
              <a:gdLst>
                <a:gd name="textAreaLeft" fmla="*/ 243360 w 1674000"/>
                <a:gd name="textAreaRight" fmla="*/ 1430640 w 1674000"/>
                <a:gd name="textAreaTop" fmla="*/ 311040 h 2119680"/>
                <a:gd name="textAreaBottom" fmla="*/ 1808640 h 211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88" y="9784"/>
                  </a:moveTo>
                  <a:cubicBezTo>
                    <a:pt x="17581" y="6147"/>
                    <a:pt x="14471" y="3441"/>
                    <a:pt x="10800" y="3441"/>
                  </a:cubicBezTo>
                  <a:cubicBezTo>
                    <a:pt x="10474" y="3440"/>
                    <a:pt x="10150" y="3462"/>
                    <a:pt x="9828" y="3505"/>
                  </a:cubicBezTo>
                  <a:lnTo>
                    <a:pt x="9373" y="94"/>
                  </a:lnTo>
                  <a:cubicBezTo>
                    <a:pt x="9846" y="31"/>
                    <a:pt x="10322" y="-1"/>
                    <a:pt x="10800" y="0"/>
                  </a:cubicBezTo>
                  <a:cubicBezTo>
                    <a:pt x="16188" y="0"/>
                    <a:pt x="20752" y="3972"/>
                    <a:pt x="21496" y="9309"/>
                  </a:cubicBezTo>
                  <a:lnTo>
                    <a:pt x="24170" y="8936"/>
                  </a:lnTo>
                  <a:lnTo>
                    <a:pt x="20403" y="13925"/>
                  </a:lnTo>
                  <a:lnTo>
                    <a:pt x="15414" y="10156"/>
                  </a:lnTo>
                  <a:lnTo>
                    <a:pt x="18088" y="9784"/>
                  </a:lnTo>
                  <a:close/>
                </a:path>
              </a:pathLst>
            </a:custGeom>
            <a:solidFill>
              <a:srgbClr val="cc00cc">
                <a:alpha val="90000"/>
              </a:srgbClr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Text Box 158"/>
            <p:cNvSpPr/>
            <p:nvPr/>
          </p:nvSpPr>
          <p:spPr>
            <a:xfrm>
              <a:off x="250920" y="5370480"/>
              <a:ext cx="221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alibri"/>
                </a:rPr>
                <a:t>Arteria pulmon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Text Box 159"/>
            <p:cNvSpPr/>
            <p:nvPr/>
          </p:nvSpPr>
          <p:spPr>
            <a:xfrm>
              <a:off x="6279120" y="5349960"/>
              <a:ext cx="222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alibri"/>
                </a:rPr>
                <a:t>Arteria aor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8" name="23 CuadroTexto"/>
          <p:cNvSpPr/>
          <p:nvPr/>
        </p:nvSpPr>
        <p:spPr>
          <a:xfrm>
            <a:off x="1547640" y="26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QUEMA DEL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536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corrido de la sangre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angre rica en CO</a:t>
            </a:r>
            <a:r>
              <a:rPr b="0" lang="es-E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ntra al corazón a través de las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enas ca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esembocan en 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rícula derech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quí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sa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 la válvula auriculoventricular (tricúspide) al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entrículo derech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alen del corazón por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eria pulmon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lleva sangre a los pulmones para oxigenar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angre rica en oxígeno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uelve al corazón, a la aurícula izquierd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or l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nas pulmon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sa al ventrículo izquier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 la válvula auriculoventricular (mitral) y de aquí sale por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eria aor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ramificarse y distribuir sangre al resto del org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0" name="Picture 9" descr="000560824"/>
          <p:cNvPicPr/>
          <p:nvPr/>
        </p:nvPicPr>
        <p:blipFill>
          <a:blip r:embed="rId1"/>
          <a:stretch/>
        </p:blipFill>
        <p:spPr>
          <a:xfrm>
            <a:off x="5359320" y="1125360"/>
            <a:ext cx="37846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/>
          </p:nvPr>
        </p:nvSpPr>
        <p:spPr>
          <a:xfrm>
            <a:off x="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Latido del corazón, ciclo cardíaco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ístole auricu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as aurículas se contraen e impulsan la sangre hacia los ventríc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ístole ventricu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os ventrículos se contraen y la sangre sale por las arterias aórtica y pulmonar. La sangre no retrocede ya que las válvulas auriculoventriculares  se cierran (primer ruido cardíac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iástole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os músculos de la pared del corazón se relajan, pero la sangre no retrocede por el cierre de la válvula pulmonar y aórtica (segundo ruido cardiaco).  Las aurículas se llenan de sangre procedente de las ve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recuencia con que late el corazón varía según las necesidades del org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oplos cardía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onidos especiales producidos  por válvulas cardíacas defectuosas que no cierran bien y permiten un pequeño retorno de sangre que produce un “soplido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2" name="Picture 7" descr="cond_sp"/>
          <p:cNvPicPr/>
          <p:nvPr/>
        </p:nvPicPr>
        <p:blipFill>
          <a:blip r:embed="rId1"/>
          <a:stretch/>
        </p:blipFill>
        <p:spPr>
          <a:xfrm>
            <a:off x="5219640" y="1773360"/>
            <a:ext cx="3924360" cy="49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8T13:00:17Z</dcterms:created>
  <dc:creator>Centor</dc:creator>
  <dc:description/>
  <dc:language>en-US</dc:language>
  <cp:lastModifiedBy>Centor</cp:lastModifiedBy>
  <dcterms:modified xsi:type="dcterms:W3CDTF">2015-12-31T10:35:33Z</dcterms:modified>
  <cp:revision>22</cp:revision>
  <dc:subject/>
  <dc:title>Diapositiva 1</dc:title>
</cp:coreProperties>
</file>